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980238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8673-4920-499A-A421-5CC2D049D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088D-DD48-487C-87FB-9441D1F9D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6FEA-FB3A-4585-8E0E-8F12DD5FE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6B88-F8D3-41E2-BDC9-874FAD22C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EEFE-598B-4A78-B81D-DB8E77AC3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4EA0-B97B-46C4-B8D6-4AD7C9876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9832-532B-41E6-BBED-D033BC415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D0D0-BDA4-46C8-9885-FB31A0665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9EB8-D4AA-4A15-9135-AB58B7E2D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D7CD-564D-463B-AFFD-69EEFFBC2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F425-C4BB-4457-87AC-3CD9CE424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0682-B4E7-43B8-88A0-55DD78BA3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D0F2F-7315-4F81-A50D-60A6001613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1143000"/>
            <a:ext cx="838188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Confounding</a:t>
            </a:r>
            <a:br>
              <a:rPr sz="5400"/>
            </a:b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and</a:t>
            </a:r>
            <a:br>
              <a:rPr sz="5400"/>
            </a:b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Effect Modification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3733920"/>
            <a:ext cx="6172200" cy="19227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hat is confound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how to assess confound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priori criteria for confou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0" t="0" r="0" b="19289"/>
          <a:stretch/>
        </p:blipFill>
        <p:spPr>
          <a:xfrm>
            <a:off x="685800" y="457200"/>
            <a:ext cx="79246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525320" y="1905120"/>
            <a:ext cx="622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How do w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Evalua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   </a:t>
            </a: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Confounding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0" r="0" b="26161"/>
          <a:stretch/>
        </p:blipFill>
        <p:spPr>
          <a:xfrm>
            <a:off x="1066680" y="990720"/>
            <a:ext cx="7239240" cy="46479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509200" y="4648320"/>
            <a:ext cx="4214880" cy="3988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s RR’s over different str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609480" y="1143000"/>
            <a:ext cx="7848720" cy="51814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rcRect l="0" t="50332" r="0" b="29128"/>
          <a:stretch/>
        </p:blipFill>
        <p:spPr>
          <a:xfrm>
            <a:off x="609480" y="380880"/>
            <a:ext cx="784872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0" t="0" r="0" b="42483"/>
          <a:stretch/>
        </p:blipFill>
        <p:spPr>
          <a:xfrm>
            <a:off x="838080" y="457200"/>
            <a:ext cx="7696440" cy="29718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rcRect l="0" t="59219" r="0" b="12029"/>
          <a:stretch/>
        </p:blipFill>
        <p:spPr>
          <a:xfrm>
            <a:off x="838080" y="3352680"/>
            <a:ext cx="76964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0" t="5432" r="0" b="7610"/>
          <a:stretch/>
        </p:blipFill>
        <p:spPr>
          <a:xfrm>
            <a:off x="685800" y="685800"/>
            <a:ext cx="7543800" cy="52578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rcRect l="-2958" t="76806" r="0" b="13631"/>
          <a:stretch/>
        </p:blipFill>
        <p:spPr>
          <a:xfrm>
            <a:off x="457200" y="5791320"/>
            <a:ext cx="7772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762120" y="533520"/>
            <a:ext cx="77724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0" t="0" r="0" b="12918"/>
          <a:stretch/>
        </p:blipFill>
        <p:spPr>
          <a:xfrm>
            <a:off x="685800" y="609480"/>
            <a:ext cx="79246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rcRect l="1096" t="13193" r="4394" b="70872"/>
          <a:stretch/>
        </p:blipFill>
        <p:spPr>
          <a:xfrm>
            <a:off x="1295280" y="3429000"/>
            <a:ext cx="6782040" cy="1295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277640" y="2249640"/>
            <a:ext cx="6820920" cy="1191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frequently used approach for deciding w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a meaningful difference when ass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foun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rcRect l="0" t="0" r="0" b="70872"/>
          <a:stretch/>
        </p:blipFill>
        <p:spPr>
          <a:xfrm>
            <a:off x="990720" y="380880"/>
            <a:ext cx="7086600" cy="14479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rcRect l="0" t="2178" r="0" b="25247"/>
          <a:stretch/>
        </p:blipFill>
        <p:spPr>
          <a:xfrm>
            <a:off x="990720" y="1828800"/>
            <a:ext cx="7086600" cy="46483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066680" y="1600200"/>
            <a:ext cx="1295640" cy="368280"/>
          </a:xfrm>
          <a:prstGeom prst="rect">
            <a:avLst/>
          </a:prstGeom>
          <a:solidFill>
            <a:srgbClr val="859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Typicall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762120" y="685800"/>
            <a:ext cx="71625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685800" y="457200"/>
            <a:ext cx="77724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0" t="0" r="0" b="26161"/>
          <a:stretch/>
        </p:blipFill>
        <p:spPr>
          <a:xfrm>
            <a:off x="762120" y="457200"/>
            <a:ext cx="7619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04920" y="2286000"/>
            <a:ext cx="838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428ff"/>
                </a:solidFill>
                <a:latin typeface="Arial"/>
              </a:rPr>
              <a:t>Characteristics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428ff"/>
                </a:solidFill>
                <a:latin typeface="Arial"/>
              </a:rPr>
              <a:t>Of Adjusted Estimat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0" t="31356" r="1238" b="31669"/>
          <a:stretch/>
        </p:blipFill>
        <p:spPr>
          <a:xfrm>
            <a:off x="1295280" y="990720"/>
            <a:ext cx="6782040" cy="38098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436840" y="4038480"/>
            <a:ext cx="4757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Typically, a weighted averag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rcRect l="1947" t="0" r="10679" b="35374"/>
          <a:stretch/>
        </p:blipFill>
        <p:spPr>
          <a:xfrm>
            <a:off x="1066680" y="1600200"/>
            <a:ext cx="7315200" cy="44956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rcRect l="1947" t="50332" r="10679" b="29128"/>
          <a:stretch/>
        </p:blipFill>
        <p:spPr>
          <a:xfrm>
            <a:off x="1066680" y="609480"/>
            <a:ext cx="73152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rcRect l="0" t="0" r="0" b="60183"/>
          <a:stretch/>
        </p:blipFill>
        <p:spPr>
          <a:xfrm>
            <a:off x="762120" y="533520"/>
            <a:ext cx="7619760" cy="28796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94440" y="3809880"/>
            <a:ext cx="7910280" cy="155700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more complicated version of a weighted a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t is typically used for adjusted risk ratio and od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tio estimates is called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CISION-BASED ADJUSTED EST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rcRect l="0" t="0" r="0" b="15559"/>
          <a:stretch/>
        </p:blipFill>
        <p:spPr>
          <a:xfrm>
            <a:off x="685800" y="533520"/>
            <a:ext cx="80773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762120" y="685800"/>
            <a:ext cx="79246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rcRect l="0" t="0" r="0" b="33308"/>
          <a:stretch/>
        </p:blipFill>
        <p:spPr>
          <a:xfrm>
            <a:off x="762120" y="762120"/>
            <a:ext cx="7924680" cy="41907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478200" y="3813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7200" y="5181480"/>
            <a:ext cx="8235000" cy="119124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the sample size in stratum 1 was 10 times higher t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previous example, would an arithmetic a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appropriate?   Answer: NO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066680" y="762120"/>
            <a:ext cx="7010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10527"/>
          <a:stretch/>
        </p:blipFill>
        <p:spPr>
          <a:xfrm>
            <a:off x="533520" y="380880"/>
            <a:ext cx="79246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0" t="0" r="0" b="12918"/>
          <a:stretch/>
        </p:blipFill>
        <p:spPr>
          <a:xfrm>
            <a:off x="609480" y="380880"/>
            <a:ext cx="807732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983600" y="2362320"/>
            <a:ext cx="4915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Criteria f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Confound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rcRect l="0" t="0" r="0" b="62912"/>
          <a:stretch/>
        </p:blipFill>
        <p:spPr>
          <a:xfrm>
            <a:off x="762120" y="838080"/>
            <a:ext cx="7772400" cy="26672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rcRect l="0" t="12918" r="0" b="59144"/>
          <a:stretch/>
        </p:blipFill>
        <p:spPr>
          <a:xfrm>
            <a:off x="762120" y="3505320"/>
            <a:ext cx="77724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rcRect l="0" t="0" r="0" b="39930"/>
          <a:stretch/>
        </p:blipFill>
        <p:spPr>
          <a:xfrm>
            <a:off x="914400" y="762120"/>
            <a:ext cx="7391520" cy="50292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066680" y="2133720"/>
            <a:ext cx="685800" cy="2819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143000" y="1066680"/>
            <a:ext cx="6934320" cy="48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457200" y="304920"/>
            <a:ext cx="8153280" cy="60195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rcRect l="0" t="75904" r="0" b="7610"/>
          <a:stretch/>
        </p:blipFill>
        <p:spPr>
          <a:xfrm>
            <a:off x="457200" y="5486400"/>
            <a:ext cx="815328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1295280" y="1219320"/>
            <a:ext cx="662940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838080" y="762120"/>
            <a:ext cx="7696440" cy="52578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057400" y="4952880"/>
            <a:ext cx="4414680" cy="45972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uld you control for Age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143000" y="609480"/>
            <a:ext cx="73915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609480" y="533520"/>
            <a:ext cx="8001000" cy="57909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60680" y="5373720"/>
            <a:ext cx="7575120" cy="82548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of these criteria must be satisfied for a vari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be considered a confoun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8336"/>
          <a:stretch/>
        </p:blipFill>
        <p:spPr>
          <a:xfrm>
            <a:off x="609480" y="1523880"/>
            <a:ext cx="7848720" cy="4800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rcRect l="0" t="50332" r="0" b="29128"/>
          <a:stretch/>
        </p:blipFill>
        <p:spPr>
          <a:xfrm>
            <a:off x="609480" y="533520"/>
            <a:ext cx="784872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58720" y="1981080"/>
            <a:ext cx="7953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428ff"/>
                </a:solidFill>
                <a:latin typeface="Arial"/>
              </a:rPr>
              <a:t>Confounding In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428ff"/>
                </a:solidFill>
                <a:latin typeface="Arial"/>
              </a:rPr>
              <a:t>Different Study Desig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609480" y="685800"/>
            <a:ext cx="79250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533520" y="609480"/>
            <a:ext cx="8153280" cy="5715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781680" y="5867280"/>
            <a:ext cx="175284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457200" y="380880"/>
            <a:ext cx="830592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8449"/>
          <a:stretch/>
        </p:blipFill>
        <p:spPr>
          <a:xfrm>
            <a:off x="685800" y="609480"/>
            <a:ext cx="7772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43660" r="0" b="10264"/>
          <a:stretch/>
        </p:blipFill>
        <p:spPr>
          <a:xfrm>
            <a:off x="685800" y="2438280"/>
            <a:ext cx="7696080" cy="3886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353240" y="5297400"/>
            <a:ext cx="6061680" cy="8254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say we are “controlling for smoking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smoking is a “control variable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rcRect l="0" t="-2416" r="0" b="66754"/>
          <a:stretch/>
        </p:blipFill>
        <p:spPr>
          <a:xfrm>
            <a:off x="685800" y="457200"/>
            <a:ext cx="7696080" cy="1981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rcRect l="36638" t="33258" r="39605" b="54863"/>
          <a:stretch/>
        </p:blipFill>
        <p:spPr>
          <a:xfrm>
            <a:off x="6629400" y="1371600"/>
            <a:ext cx="16002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43247" r="0" b="8336"/>
          <a:stretch/>
        </p:blipFill>
        <p:spPr>
          <a:xfrm>
            <a:off x="685800" y="2438280"/>
            <a:ext cx="8001000" cy="30718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rcRect l="0" t="14720" r="0" b="71911"/>
          <a:stretch/>
        </p:blipFill>
        <p:spPr>
          <a:xfrm>
            <a:off x="685800" y="5410080"/>
            <a:ext cx="8001000" cy="10670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rcRect l="0" t="-2416" r="0" b="66754"/>
          <a:stretch/>
        </p:blipFill>
        <p:spPr>
          <a:xfrm>
            <a:off x="685800" y="457200"/>
            <a:ext cx="8001000" cy="1981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rcRect l="36638" t="33258" r="39605" b="54863"/>
          <a:stretch/>
        </p:blipFill>
        <p:spPr>
          <a:xfrm>
            <a:off x="6858000" y="1371600"/>
            <a:ext cx="16002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12505" r="0" b="72963"/>
          <a:stretch/>
        </p:blipFill>
        <p:spPr>
          <a:xfrm>
            <a:off x="914400" y="2819520"/>
            <a:ext cx="7543800" cy="914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rcRect l="0" t="43072" r="0" b="13193"/>
          <a:stretch/>
        </p:blipFill>
        <p:spPr>
          <a:xfrm>
            <a:off x="914400" y="609480"/>
            <a:ext cx="7543800" cy="2229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rcRect l="47003" t="56669" r="14002" b="22000"/>
          <a:stretch/>
        </p:blipFill>
        <p:spPr>
          <a:xfrm>
            <a:off x="914400" y="3733920"/>
            <a:ext cx="7543800" cy="23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1002" t="17887" r="1918" b="7948"/>
          <a:stretch/>
        </p:blipFill>
        <p:spPr>
          <a:xfrm>
            <a:off x="762120" y="457200"/>
            <a:ext cx="7467480" cy="42670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rcRect l="0" t="0" r="0" b="71135"/>
          <a:stretch/>
        </p:blipFill>
        <p:spPr>
          <a:xfrm>
            <a:off x="762120" y="4724280"/>
            <a:ext cx="7467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1-15T18:31:32Z</dcterms:modified>
  <cp:revision>20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86904489</vt:r8>
  </property>
  <property fmtid="{D5CDD505-2E9C-101B-9397-08002B2CF9AE}" pid="3" name="_AuthorEmail">
    <vt:lpwstr>dgk0@cdc.gov</vt:lpwstr>
  </property>
  <property fmtid="{D5CDD505-2E9C-101B-9397-08002B2CF9AE}" pid="4" name="_AuthorEmailDisplayName">
    <vt:lpwstr>Kleinbaum, David</vt:lpwstr>
  </property>
  <property fmtid="{D5CDD505-2E9C-101B-9397-08002B2CF9AE}" pid="5" name="_EmailSubject">
    <vt:lpwstr>meas of disease freq pp attached</vt:lpwstr>
  </property>
</Properties>
</file>